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FAC-41FB-4EB4-A0AC-ABFBDEFD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A4F-847B-4D8C-B492-C7F2226C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FDA-590C-4B94-A52D-194C920E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983-0CC2-4555-936F-CEB9EE0E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E50-C88B-4439-A0CB-AAE636EF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202-A596-4FC9-AA27-1F10970A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70E-9DE2-4246-BCA3-9CBA7E32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B5C-FBCB-4A86-B2CF-1E03968C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39E-8CC9-4D83-8FA5-6667215E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CB1-7CA8-43F5-8CB2-6F69066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1A3-694A-446C-9138-9031504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5350-2CB1-418C-BAB9-C5DDE16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657C-A675-49AC-BD89-7E94BBBE6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rs of Accounting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vestor in a firm’s common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nk that lends money to a fi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stomer to whom a firm provide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bor union that represents a firm’s employees in a compensation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ntitrust regulator interested in the market share and profitability of a firm relative to its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etitor interested in the market share and profitability of a firm’s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ome tax agency assessing taxes on the income of the fi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5T16:10:12Z</dcterms:created>
  <dc:creator>ME</dc:creator>
  <dc:description/>
  <dc:language>en-US</dc:language>
  <cp:lastModifiedBy>ME</cp:lastModifiedBy>
  <dcterms:modified xsi:type="dcterms:W3CDTF">2004-07-05T16:10:29Z</dcterms:modified>
  <cp:revision>1</cp:revision>
  <dc:subject/>
  <dc:title>Users of Accounting Information</dc:title>
</cp:coreProperties>
</file>